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CF8-34F9-42CD-BBC0-B1E8CB44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61531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D9A-BAA6-4FDE-9B6A-4A46E13B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F36-0097-44BC-ADAE-2688D7AB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DA4-4CF5-4980-A2A4-80554F4C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432-D9ED-4474-AF13-7F3E6E2D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14F-0D6A-466D-A4A2-3F46743C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804-1D7B-48DD-ACD0-7616DC3C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18E-BA9C-4989-8C94-E7A75D08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A06-DE1D-4F03-AA4C-2A938038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196-7728-4F93-BAE2-1BEE92EB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7DB-4971-4D54-89B5-AB03AE79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E9F7-328C-4AC9-BC1D-661F7ECE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1461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60" indent="-146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60" indent="-146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97360"/>
            <a:ext cx="9144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anenbaum &amp; Van Steen, Distributed Systems: Principles and Paradigms, 2e, (c) 2007 Prentice-Hall, Inc. All rights reserved. 0-13-239227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0EE2-B8CD-4913-8E63-C0DA2B18A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777240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 and Paradigm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Edi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S. TANENBA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RTEN VAN STEEN</a:t>
            </a:r>
            <a:br>
              <a:rPr sz="1800"/>
            </a:br>
            <a:br>
              <a:rPr sz="18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apter 9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uri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yering of Security Mechanisms (2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4. Several sites connected throug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wide-area backbone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3600" y="1952640"/>
            <a:ext cx="839772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tribution of Security Mechanis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5. The principle of RISSC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to secure distributed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3120" y="2138400"/>
            <a:ext cx="82850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yptography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6. Intruders and eavesdroppers in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5360" y="1398600"/>
            <a:ext cx="8145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yptography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7. Notation used in this chap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8920" y="2222640"/>
            <a:ext cx="61498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ymmetric Cryptosystems: DE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0880" y="5126040"/>
            <a:ext cx="280512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8. (a)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 of DE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42253" b="0"/>
          <a:stretch/>
        </p:blipFill>
        <p:spPr>
          <a:xfrm>
            <a:off x="3959280" y="1014480"/>
            <a:ext cx="47037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ymmetric Cryptosystems: DE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1520" y="4289400"/>
            <a:ext cx="354960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8. (b) Outlin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ncryption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61276" t="27438" r="0" b="0"/>
          <a:stretch/>
        </p:blipFill>
        <p:spPr>
          <a:xfrm>
            <a:off x="4514760" y="1128600"/>
            <a:ext cx="411480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ymmetric Cryptosystems: DES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5946840"/>
            <a:ext cx="91440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9. Details of per-round key generation in 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51040" y="1327320"/>
            <a:ext cx="63961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ublic-Key Cryptosystems: RS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7040" y="1577880"/>
            <a:ext cx="77644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ng the private and public keys requ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wo very large prime number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= p × 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 = (p − 1) × (q − 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nu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is relatively prime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number e such th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 × d = 1 mod 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ash Functions: MD5 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10. The structure of MD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95440" y="1552680"/>
            <a:ext cx="814536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ash Functions: MD5 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11. The 16 iterations during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round in a phase in MD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9920" y="1793880"/>
            <a:ext cx="89265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curity Threats, Policies, and Mechanism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20400" y="1490760"/>
            <a:ext cx="578484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ecurity threats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uthentication Based on a Shared Secret Key (1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5886360"/>
            <a:ext cx="9144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12. Authentication based on a shared secret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07960" y="1325520"/>
            <a:ext cx="62643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uthentication Based on a Shared Secret Key (2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13. Authentication based on a shar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 key, but using three instead of five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546200"/>
            <a:ext cx="61264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uthentication Based on a Shared Secret Key (3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596268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14. The reflection at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09640" y="1951200"/>
            <a:ext cx="75088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uthentication Using a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ey Distribution Center (1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5869080"/>
            <a:ext cx="91440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15. The principle of using a KD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1120" y="1797120"/>
            <a:ext cx="78674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uthentication Using a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ey Distribution Center (2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16. Using a ticket and let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set up a connection to B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3480" y="1746360"/>
            <a:ext cx="80582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uthentication Using a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ey Distribution Center (3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17. The Needham-Schroeder authentication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4800" y="2030400"/>
            <a:ext cx="79646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uthentication Using a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ey Distribution Center (4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18. Protection against malicious reuse of a previously generated session key in the Needham-Schroeder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98400" y="1379520"/>
            <a:ext cx="78091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uthentication Using a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ey Distribution Center (5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19. Mutual authentication in a public-key crypto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1480" y="1943280"/>
            <a:ext cx="7099200" cy="29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gital Signature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53578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20. Digital signing a mess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public-key cryptogra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28760" y="2141640"/>
            <a:ext cx="83912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gital Signature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21. Digitally signing a message using a message dig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3360" y="1754280"/>
            <a:ext cx="8543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xample: The Globus Security Architecture (1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80960" y="1530360"/>
            <a:ext cx="866304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nvironment consists of multiple administrative domai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al operations are subject to a local domain security policy on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bal operations require the initiator to be known in each domain where the operation is carried ou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ure Replicated Serv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22. Sharing a secret signat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group of replicated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15920" y="1224000"/>
            <a:ext cx="71550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: Kerbero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23. Authentication in Kerb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440" y="1833480"/>
            <a:ext cx="80470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: Kerbero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24. Setting up a secure channel in Kerb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71520" y="2405160"/>
            <a:ext cx="66009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eneral Issues in Access Control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25. General model of controlling access to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85840" y="2481120"/>
            <a:ext cx="8572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ess Control Matrix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26. Comparison between ACLs and capabilities for protecting objects. (a) Using an AC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53626"/>
          <a:stretch/>
        </p:blipFill>
        <p:spPr>
          <a:xfrm>
            <a:off x="601560" y="1916280"/>
            <a:ext cx="79502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ess Control Matrix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26. Comparison between ACLs and capabilities for protecting objects. (b) Using cap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55477" r="0" b="0"/>
          <a:stretch/>
        </p:blipFill>
        <p:spPr>
          <a:xfrm>
            <a:off x="584280" y="1900080"/>
            <a:ext cx="79549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tection Domai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27. The hierarchical organization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domains as groups of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19040" y="2106720"/>
            <a:ext cx="8247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rewal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28. A common implementation of a fire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47840" y="1536840"/>
            <a:ext cx="834516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tecting the Target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5962680"/>
            <a:ext cx="91440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29. The organization of a Java sand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3640" y="1397160"/>
            <a:ext cx="80359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tecting the Target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30. (a) A sandbox. (b) A play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41440" y="1744560"/>
            <a:ext cx="831672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xample: The Globus Security Architecture (2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960" y="1530360"/>
            <a:ext cx="866304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33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rations between entities in different domains require mutual authentic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33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bal authentication replaces local authentic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33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olling access to resources is subject to local security on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33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s can delegate rights to proces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33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oup of processes in the same domain can share credenti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tecting the Target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31. The principle of using Java obje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s as cap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52600" y="1393920"/>
            <a:ext cx="815976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tecting the Target (4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32. The principle of stack introsp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33680" y="1282680"/>
            <a:ext cx="61070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ey Establishmen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33. The principle of Diffie-Hellman key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8280" y="1876320"/>
            <a:ext cx="851868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ey Distribution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34. (a) Secret-key distributio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see also Menezes et al. (1996)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56388"/>
          <a:stretch/>
        </p:blipFill>
        <p:spPr>
          <a:xfrm>
            <a:off x="517680" y="1495440"/>
            <a:ext cx="827856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ey Distribution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34. (b) Public-key distribu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see also Menezes et al. (1996)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52239" r="0" b="0"/>
          <a:stretch/>
        </p:blipFill>
        <p:spPr>
          <a:xfrm>
            <a:off x="411120" y="1401840"/>
            <a:ext cx="81345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ure Group Managemen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35. Securely admitting a new group me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1120" y="1871640"/>
            <a:ext cx="77817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0000"/>
                </a:solidFill>
                <a:latin typeface="Arial"/>
              </a:rPr>
              <a:t>Capabilities and Attribute Certificates (1)</a:t>
            </a:r>
            <a:endParaRPr b="0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49705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36. A capability in Amoe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2711520"/>
            <a:ext cx="9169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0000"/>
                </a:solidFill>
                <a:latin typeface="Arial"/>
              </a:rPr>
              <a:t>Capabilities and Attribute Certificates (2)</a:t>
            </a:r>
            <a:endParaRPr b="0" lang="en-US" sz="3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37. Generation of a restricted cap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n owner cap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9880" y="1460520"/>
            <a:ext cx="84600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legation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50641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38. The general structure of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y as used for dele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34880" y="1938240"/>
            <a:ext cx="8255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legation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55594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39. Using a proxy to delegate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ownership of access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76280" y="1701720"/>
            <a:ext cx="81709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xample: The Globus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curity Architecture (2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660920"/>
            <a:ext cx="29908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1. The Globus security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16280" y="1293840"/>
            <a:ext cx="602928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cus of Control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2. Three approaches for protection against security threats. (a) Protection against invali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47414" b="51801"/>
          <a:stretch/>
        </p:blipFill>
        <p:spPr>
          <a:xfrm>
            <a:off x="1058760" y="1042920"/>
            <a:ext cx="71676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cus of Control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2. Three approaches for protection against security threats. (b) Protection against unauthorized inv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56291" t="0" r="0" b="50732"/>
          <a:stretch/>
        </p:blipFill>
        <p:spPr>
          <a:xfrm>
            <a:off x="1612800" y="1014480"/>
            <a:ext cx="595800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cus of Control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2. Three approaches for protection against security threats.  (c) Protection against unauthorize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8768" t="54293" r="26718" b="0"/>
          <a:stretch/>
        </p:blipFill>
        <p:spPr>
          <a:xfrm>
            <a:off x="1569960" y="1211400"/>
            <a:ext cx="60674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yering of Security Mechanisms (1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9-3. The logical organization of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ystem into several 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7560" y="1652760"/>
            <a:ext cx="82076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0:12:14Z</dcterms:created>
  <dc:creator>Steve Armstrong</dc:creator>
  <dc:description/>
  <dc:language>en-US</dc:language>
  <cp:lastModifiedBy>Steve Armstrong</cp:lastModifiedBy>
  <dcterms:modified xsi:type="dcterms:W3CDTF">2006-09-15T00:55:16Z</dcterms:modified>
  <cp:revision>60</cp:revision>
  <dc:subject/>
  <dc:title>Introduction</dc:title>
</cp:coreProperties>
</file>