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7BD-7739-489E-9F63-0C039D2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B3F-A1D9-42C6-B151-836DDC42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0E8-33EE-4D20-B1D8-A7854BA3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01F-02F9-4EF9-B343-04DC2C0C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297-4427-44CF-9698-CDAB560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8DF-A769-4022-B392-C93BE6C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7FE-CA49-400D-9009-925A592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C1D-445C-4E60-BC9C-CB025DE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979-F7B2-42F9-BDC0-9ACA55D9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DBE-1146-44A0-B78C-3E633924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801-A7CB-4223-8EFB-45A8E69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632-69F0-4E06-9064-007D383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055C-4BC0-4CDA-A097-C8FE2CAA3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uster Computing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6. An example of a cluster comput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9760" y="1638360"/>
            <a:ext cx="8002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id Computing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869080"/>
            <a:ext cx="91440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7. A layered architecture for grid computing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09840" y="1400040"/>
            <a:ext cx="61005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nsaction Processing System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8. Example primitives for trans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4760" y="2076480"/>
            <a:ext cx="83754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nsaction Processing System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5600" y="1420920"/>
            <a:ext cx="79358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properties of trans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: To the outside world, the transaction happens indivisi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: The transaction does not violate system invari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: Concurrent transactions do not interfere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ble: Once a transaction commits, the changes are perma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nsaction Processing Systems (3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916240"/>
            <a:ext cx="914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9. A nested trans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65320" y="1219320"/>
            <a:ext cx="513576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nsaction Processing Systems (4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0. The role of a TP monitor in distribute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2120" y="1509840"/>
            <a:ext cx="822816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terprise Application Integ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56055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1. Middleware as a communication facilitator in enterprise application integ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17720" y="1255680"/>
            <a:ext cx="72468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ed Pervasive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6960" y="1360440"/>
            <a:ext cx="8447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pervasive 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ace contextual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ad hoc 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sharing as the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onic Health Care System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6720" y="1268280"/>
            <a:ext cx="847728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be addressed for health care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nd how should monitored data be sto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prevent loss of cruci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rastructure is needed to generate and propagate al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physicians provide online feed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extreme robustness of the monitoring system be real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security issues and how can the proper policies be e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onic Health Care System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11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389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2. Monitoring a person in a pervasive electronic health care system, using (a) a local hub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a continuous wireless conn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0000" y="1521000"/>
            <a:ext cx="86072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finition of a Distributed System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39440" y="1996560"/>
            <a:ext cx="59547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ributed system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independent computers that appears to its users as a single coher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sor Network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0640" y="1577880"/>
            <a:ext cx="85233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concerning sensor net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(dynamically) set up an efficient tree in a sensor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ggregation of results take place? Can it be contro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network links f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sor Network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55436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3. Organizing a sensor network database, while storing and processing data (a) only at the operator’s site 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52453"/>
          <a:stretch/>
        </p:blipFill>
        <p:spPr>
          <a:xfrm>
            <a:off x="563400" y="1427040"/>
            <a:ext cx="81536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nsor Network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55436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3. Organizing a sensor network database, while storing and processing data … or (b) only at the sen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52026" r="0" b="0"/>
          <a:stretch/>
        </p:blipFill>
        <p:spPr>
          <a:xfrm>
            <a:off x="1020600" y="1380960"/>
            <a:ext cx="7677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efinition of a Distributed System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5464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1. A distributed system organized as middleware. The middleware layer extends over multiple machines, and offers each  application the same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280" y="1749600"/>
            <a:ext cx="789300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ansparency in a Distributed Syste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06560" y="5565600"/>
            <a:ext cx="67579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2. Different forms of transparency in a distributed system (ISO, 199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20" y="1963800"/>
            <a:ext cx="88632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alabilit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257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3. Examples of scalability lim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000" y="2486160"/>
            <a:ext cx="90345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alability Probl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3120" y="1344600"/>
            <a:ext cx="85708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decentralized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chine has complete information about the system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s make decisions based only on loc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of one machine does not ruin the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implicit assumption that a global clock ex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aling Techniqu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9040" y="5524560"/>
            <a:ext cx="7619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4. The difference between letting (a) a server or (b) a client check forms as they are being fi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2160" y="1208160"/>
            <a:ext cx="72518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caling Techniqu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5715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-5. An example of dividing the D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space into z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9880" y="1397160"/>
            <a:ext cx="85820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itfalls when Developing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stributed Syste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54200"/>
            <a:ext cx="86486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assumptions made by first time develo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is rel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is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work is homogene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pology does no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 is inf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cost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one administ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04T01:46:19Z</dcterms:modified>
  <cp:revision>46</cp:revision>
  <dc:subject/>
  <dc:title>Introduction</dc:title>
</cp:coreProperties>
</file>