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CB4-56DC-4B76-8358-DD1C929B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409-3BCD-4C9C-9274-9532FE9E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D34-B8C2-4B63-B5B3-4E6487A3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FD0-7998-414B-912A-B2F179AB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639-1AD2-43E9-A622-62226AFB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6CE-9E1B-4A1E-A44E-D46CABC0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82A-FC13-4293-B60E-3E188E70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20D-DFE8-4C2A-AA62-ECC49FB9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53A-3E7D-49A9-9A9C-1C515573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A4A-4B7C-41C6-8D63-982DE00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597-4AD6-49B8-AF53-DFC2C8B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A26-0083-4F1D-B0FD-73C4E56B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146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nenbaum &amp; Van Steen, Distributed Systems: Principles and Paradigms, 2e, (c) 2007 Prentice-Hall, Inc. All rights reserved. 0-13-239227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BA01-209C-40B7-AB55-C10B55249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and Paradig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S. TANENBA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TEN VAN STEEN</a:t>
            </a: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12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tribute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-Based 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er Cluster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9. A scalable content-aware cluster of Web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8640" y="1362240"/>
            <a:ext cx="82900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TTP Connection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0. (a) Using nonpersistent conn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55821" b="0"/>
          <a:stretch/>
        </p:blipFill>
        <p:spPr>
          <a:xfrm>
            <a:off x="2367000" y="1258920"/>
            <a:ext cx="50306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TTP Connection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0.  (b) Using persistent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55049" t="0" r="0" b="0"/>
          <a:stretch/>
        </p:blipFill>
        <p:spPr>
          <a:xfrm>
            <a:off x="2023920" y="1274760"/>
            <a:ext cx="50500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TTP Metho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1. Operations supported by HT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520" y="1994040"/>
            <a:ext cx="88963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TTP Messag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gure 12-12. (a) HTTP request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47481"/>
          <a:stretch/>
        </p:blipFill>
        <p:spPr>
          <a:xfrm>
            <a:off x="925560" y="1235160"/>
            <a:ext cx="776124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TTP Messag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gure 12-12. (b) HTTP respons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56615" r="0" b="0"/>
          <a:stretch/>
        </p:blipFill>
        <p:spPr>
          <a:xfrm>
            <a:off x="585720" y="1503360"/>
            <a:ext cx="80787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TTP Message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3. Some HTTP message h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0" b="48423"/>
          <a:stretch/>
        </p:blipFill>
        <p:spPr>
          <a:xfrm>
            <a:off x="409680" y="1230480"/>
            <a:ext cx="83246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TTP Messages (4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3. Some HTTP message h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51223" r="0" b="0"/>
          <a:stretch/>
        </p:blipFill>
        <p:spPr>
          <a:xfrm>
            <a:off x="303120" y="1749600"/>
            <a:ext cx="8508960" cy="3794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9800" y="1430280"/>
            <a:ext cx="817884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mple Object Access Protoco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4. An example of an XML-based SOAP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7440" y="1365120"/>
            <a:ext cx="814860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ing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541296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5. Often-used structures for URLs. (a) Using only a DNS name. (b) Combining a DNS name with a port number. (c) Combining an IP address with a port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08040" y="1130400"/>
            <a:ext cx="585324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aditional Web-Based 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1560" y="5683320"/>
            <a:ext cx="8188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. The overall organization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85720" y="1243080"/>
            <a:ext cx="8142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6. Examples of U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3680" y="1433520"/>
            <a:ext cx="8308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Proxy Cach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587052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7. The principle of cooperative c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0440" y="1112760"/>
            <a:ext cx="83152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plication for Web Hosting System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54658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8. The general organization of a CDN as a feedback-control system (adapted from Sivasubramanian et al., 2004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6600" y="1359000"/>
            <a:ext cx="79786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aptation Triggering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5327640"/>
            <a:ext cx="91440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19. One normal and three different access patterns reflecting flashcrowd behavi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dapted from Baryshnikov et al., 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82840" y="1239840"/>
            <a:ext cx="63943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justment Meas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82444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20. The principal working of the Akamai C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0080" y="1263600"/>
            <a:ext cx="79041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plication of Web Applica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21. Alternatives for caching and replic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Web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2120" y="1258920"/>
            <a:ext cx="862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ity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22. The position of TLS in the Internet protocol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03680" y="1684440"/>
            <a:ext cx="35035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curity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23. TLS with mutual authent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4280" y="1508040"/>
            <a:ext cx="554652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Docum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7927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2. Six top-level MIME type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mon sub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62080" y="946080"/>
            <a:ext cx="70372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tiered Archite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3. The principle of using server-side CGI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1280" y="1789200"/>
            <a:ext cx="83138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ices Fundamental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9166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4. The principle of a Web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46320" y="1333440"/>
            <a:ext cx="69357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sses – Client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5. The logical components of a Web brow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6120" y="1341360"/>
            <a:ext cx="7932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cesses – Client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110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6. Using a Web proxy whe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 does not speak F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6040" y="2403360"/>
            <a:ext cx="749304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Apache Web Serv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5808600"/>
            <a:ext cx="91440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7. The general organization of the Apache 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1320" y="1197000"/>
            <a:ext cx="670716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b Server Cluster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2-8. The principle of using a server cluster in combination with a front end to implement a Web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69840" y="1266840"/>
            <a:ext cx="72597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12:14Z</dcterms:created>
  <dc:creator>Steve Armstrong</dc:creator>
  <dc:description/>
  <dc:language>en-US</dc:language>
  <cp:lastModifiedBy>Steve Armstrong</cp:lastModifiedBy>
  <dcterms:modified xsi:type="dcterms:W3CDTF">2006-09-17T22:47:11Z</dcterms:modified>
  <cp:revision>57</cp:revision>
  <dc:subject/>
  <dc:title>Introduction</dc:title>
</cp:coreProperties>
</file>