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6F9-6CFB-4CFD-AE35-6CD37FD0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C04-F317-4915-B11E-15BBE423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C73-8C5C-4964-98DB-29A3320C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ED1-6A34-4FC1-A125-D1E8971B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88B-E059-49C5-ACC3-77950B19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0A8-41E4-465D-97C7-ADE52579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7B4-FA72-47C3-B148-E669A9D9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DF9-D145-4AC1-9971-7C90452E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C90-F261-457E-916B-7C339E73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C8F-9230-4AD8-8F6A-541EF64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3F2-AA5B-4354-891F-77AFDFF4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2FD-65EB-4E52-AC9B-37D65045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1461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nenbaum &amp; Van Steen, Distributed Systems: Principles and Paradigms, 2e, (c) 2007 Prentice-Hall, Inc. All rights reserved. 0-13-239227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5009-42A7-437C-8F55-5657A4B48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and Paradigm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S. TANENBA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TEN VAN STEEN</a:t>
            </a:r>
            <a:br>
              <a:rPr sz="18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pter 10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TRIBUTED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-BASED SYST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ameter Pass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8. The situation when passing 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by reference or by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5800" y="1527120"/>
            <a:ext cx="83203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-Based Messaging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9. CORBA’s callback model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method inv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596960"/>
            <a:ext cx="846144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-Based Messaging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0. CORBA’s polling model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method inv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2680" y="1606680"/>
            <a:ext cx="82152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BA Object Referenc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1. The organization of an IOR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information for II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5920" y="1386000"/>
            <a:ext cx="84358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lobe Object Reference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50799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2. The representation of a protoc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 in a stacked contact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039760"/>
            <a:ext cx="914400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lobe Object Reference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51879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3. The representation of an instance contact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2520" y="2174760"/>
            <a:ext cx="87868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nchroniz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4. Differences in control flow for lock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2200" y="1332000"/>
            <a:ext cx="8290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try Consiste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5. Deterministic thread schedul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plicated object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680" y="1106640"/>
            <a:ext cx="8775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lication Framework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57280" y="1639800"/>
            <a:ext cx="82756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cations to objects are intercepted at three different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client side just before the invocation is passed to the stu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the client’s stub, where the interception forms part of the replication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erver side, just before the object is about to be invo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lication Framework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54514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6. A general framework for separating replication algorithms from objects in an EJB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1600" y="1751040"/>
            <a:ext cx="8659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tributed Objec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1560" y="5683320"/>
            <a:ext cx="8188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. Common organization of a remo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with client-side prox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7360" y="1273320"/>
            <a:ext cx="806292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licated Invocation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5776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7. The problem of replicated method inv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52360" y="1168560"/>
            <a:ext cx="71438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licated Invocation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50906" b="0"/>
          <a:stretch/>
        </p:blipFill>
        <p:spPr>
          <a:xfrm>
            <a:off x="3794040" y="1066680"/>
            <a:ext cx="5083200" cy="5126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9360" y="4505400"/>
            <a:ext cx="452592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8. (a) Forwarding an invocation request from a replicated object to another replicated ob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licated Invocations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60334" t="0" r="-2543" b="0"/>
          <a:stretch/>
        </p:blipFill>
        <p:spPr>
          <a:xfrm>
            <a:off x="4216320" y="1054080"/>
            <a:ext cx="4695840" cy="5506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9360" y="4505400"/>
            <a:ext cx="452592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8. (b) Returning a reply from one replicated object to an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: Fault-Tolerant CORB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19. A possible organization of 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GR for an object group having a primary and back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9520" y="1738440"/>
            <a:ext cx="867096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 Example Architectur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20. An example architecture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-tolerant CORB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90520" y="1235160"/>
            <a:ext cx="675972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: Fault-Tolerant Jav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22520"/>
            <a:ext cx="86486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for nondeterministic behavior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VM can execute native code, that is, code that is external to the JVM and provided to the latter through an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ata may be subject to nondetermi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resence of failures, different JVMs will produce different output revealing that the machines have been repli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verview of Globe Securi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54975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21. Certificates in Globe: (a) a user certificat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a replica certificate, (c) an administrative certif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71520" y="1976400"/>
            <a:ext cx="84708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e Method Invocation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22. Secure method invocation in Glo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9000" y="1393920"/>
            <a:ext cx="878040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e Method Invocation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7360" y="1623960"/>
            <a:ext cx="87566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for securely invoking a method of a Globe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issues a invocation request by locally calling the associat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ubobject checks the user permissions with the information stored in the local security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is marshaled and passe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ion subobject requests the middleware to set up a secure channel to a suitable rep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e Method Invocation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7280" y="1406520"/>
            <a:ext cx="8586720" cy="51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object first initiates a replica look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suitable replica has been found, security subobject can set up a secure channel with its peer, after which control is returned to the replication sub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is now passed on to the communication sub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bject encrypts and signs the request so that it can pass through the cha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: Enterprise Java Bea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520" y="4179960"/>
            <a:ext cx="323856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2. General architecture of an EJ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46360" y="1192320"/>
            <a:ext cx="50580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e Method Invocation (4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5040" y="1562040"/>
            <a:ext cx="850896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its receipt, the request is decrypted and authenti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then passed on to the server-side replication sub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zation takes pla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is then unmarsha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, the operation can be exec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ur Types of EJB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3120" y="2025720"/>
            <a:ext cx="76708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session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ful session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-driven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lobe Distributed Shared Objects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3. The organization of a Glo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hared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68560" y="1039680"/>
            <a:ext cx="594828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lobe Distributed Shared Objects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9520" y="1084320"/>
            <a:ext cx="6495840" cy="536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02240" y="3948120"/>
            <a:ext cx="364176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4. The general organization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bject for distributed shared objects in Glo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 Adapt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1600" y="3174480"/>
            <a:ext cx="3549600" cy="33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5. Organization of an object ser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different activation poli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59080" y="1071720"/>
            <a:ext cx="4621320" cy="54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ample: The Ice Runtime Syste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6. Example of creating an object server in 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460520"/>
            <a:ext cx="9144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inding a Client to an Objec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5203800"/>
            <a:ext cx="91440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7. (a) An example with implicit binding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lobal references. (b) An 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binding using global and local re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2120" y="1200240"/>
            <a:ext cx="89218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0:12:14Z</dcterms:created>
  <dc:creator>Steve Armstrong</dc:creator>
  <dc:description/>
  <dc:language>en-US</dc:language>
  <cp:lastModifiedBy>Steve Armstrong</cp:lastModifiedBy>
  <dcterms:modified xsi:type="dcterms:W3CDTF">2006-09-16T16:21:50Z</dcterms:modified>
  <cp:revision>58</cp:revision>
  <dc:subject/>
  <dc:title>Introduction</dc:title>
</cp:coreProperties>
</file>