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0B7-DB02-4BBE-B31D-B3E3AFA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831-77C0-497E-BE19-33BF6BFE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10F-2886-42FE-8A13-9C79ADF0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4F3-C5D3-4D0A-95EC-7212B487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52C-F788-4829-8EFB-83CAE200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94E-AF90-495A-80D0-FC0CD68C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E5F-95C6-4F78-82A7-EBAA9B2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129-B1E4-4EA8-BCD4-5804A26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860-D616-4F61-BF76-4BEF8755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088-5E57-446D-89F8-F044076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B63-B718-4348-AC0F-57C649B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C88-D118-4CDF-8B42-E8F1173A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4BF-4B3F-4EB7-829F-D8D56F69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Approach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7. Looking up a location in a hierarchic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locatio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38240" y="1123920"/>
            <a:ext cx="702792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Approaches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8. (a) An insert request is forwarded to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node that knows about entity 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52293" b="0"/>
          <a:stretch/>
        </p:blipFill>
        <p:spPr>
          <a:xfrm>
            <a:off x="2279520" y="1181160"/>
            <a:ext cx="483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Approaches (5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8. (b) A chain of forwarding point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leaf node 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47197" t="11206" r="0" b="0"/>
          <a:stretch/>
        </p:blipFill>
        <p:spPr>
          <a:xfrm>
            <a:off x="1943280" y="1380960"/>
            <a:ext cx="5616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Spac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9. A general naming graph with a single root 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9360" y="1838160"/>
            <a:ext cx="84456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Spac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4986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0. The general organization of the UNIX file system implementation on a logical disk of contiguous disk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5520" y="2413080"/>
            <a:ext cx="83851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king and Mount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55911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1. The concept of a symbolic lin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ed in a naming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8760" y="1476360"/>
            <a:ext cx="833724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king and Mount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6720" y="1330200"/>
            <a:ext cx="801216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required to mount a foreign name space in a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an access protoc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of the mounting point in the foreign nam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nking and Mounting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2. Mounting remote name spa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 specific access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8440" y="1177920"/>
            <a:ext cx="6359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Space Distribu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7927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3. An example partitioning of the DNS name space, including Internet-accessible files, into three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100160"/>
            <a:ext cx="7201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Space Distribu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5094360"/>
            <a:ext cx="914400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4. A comparison between name servers for implementing nodes from a large-scale name space partitioned into a global layer, an administration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, and a managerial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7520" y="1687680"/>
            <a:ext cx="8537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s, Identifiers, And Addres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6200" y="1842840"/>
            <a:ext cx="84139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a true ident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dentifier refers to at most one 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ntity is referred to by at most one identif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dentifier always refers to the same 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ation of Name Resolution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5. The principle of iterative name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68400" y="1415880"/>
            <a:ext cx="72216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ation of Name Resolution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6. The principle of recursive name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22360" y="127332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mplementation of Name Resolution (3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48280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7. Recursive name resolution of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l, vu, cs, f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. Name servers cache intermediate results for subsequent look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6600" y="1335240"/>
            <a:ext cx="85392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The Domain Name Syste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53589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8. The comparison between recursive and iterative name resolution with respect to communication co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4600" y="1455840"/>
            <a:ext cx="88376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DNS Name Sp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9. The most important types of resource records forming the contents of nodes in the DNS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7520" y="1271520"/>
            <a:ext cx="85741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NS Implementa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8611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0. An excerpt from the D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for the z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s.vu.n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42222"/>
          <a:stretch/>
        </p:blipFill>
        <p:spPr>
          <a:xfrm>
            <a:off x="1022400" y="831960"/>
            <a:ext cx="73072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NS Implementa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0. An excerpt from the D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for the z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s.vu.n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7433" r="0" b="-3537"/>
          <a:stretch/>
        </p:blipFill>
        <p:spPr>
          <a:xfrm>
            <a:off x="231840" y="1268280"/>
            <a:ext cx="8688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NS Implementation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1. Part of the description for the vu.n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which contains the cs.vu.nl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6120" y="1477800"/>
            <a:ext cx="8083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erarchical Implementations: LDAP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2. A simple example of an LDA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entry using LDAP naming con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3040" y="1351080"/>
            <a:ext cx="8416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erarchical Implementations: LDAP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3. (a) Part of a directory information t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040" y="1417680"/>
            <a:ext cx="8145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warding Pointer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1. The principle of forwarding point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(client stub, server stub) p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6560" y="1312920"/>
            <a:ext cx="7599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erarchical Implementations: LDAP (3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4039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3. (b) Two directory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st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R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7680" y="1676520"/>
            <a:ext cx="815796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pping to Distributed Hash Table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4. (a) A general description of a resourc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Its representation as an AV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70544" b="0"/>
          <a:stretch/>
        </p:blipFill>
        <p:spPr>
          <a:xfrm>
            <a:off x="380880" y="1500120"/>
            <a:ext cx="3067200" cy="3657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53431" t="0" r="0" b="0"/>
          <a:stretch/>
        </p:blipFill>
        <p:spPr>
          <a:xfrm>
            <a:off x="3832200" y="1484280"/>
            <a:ext cx="490536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pping to Distributed Hash Table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5. (a) The resource description of a query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Its representation as an AV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63170" b="0"/>
          <a:stretch/>
        </p:blipFill>
        <p:spPr>
          <a:xfrm>
            <a:off x="295200" y="1298520"/>
            <a:ext cx="3641760" cy="422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67088" t="0" r="0" b="0"/>
          <a:stretch/>
        </p:blipFill>
        <p:spPr>
          <a:xfrm>
            <a:off x="5127480" y="1390680"/>
            <a:ext cx="3254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mantic Overlay Networ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6. Maintaining a semantic overlay through gossi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3360" y="1432080"/>
            <a:ext cx="812484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warding Pointer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. Redirecting a forwarding pointer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a shortcut in a client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51015" b="0"/>
          <a:stretch/>
        </p:blipFill>
        <p:spPr>
          <a:xfrm>
            <a:off x="1878120" y="1282680"/>
            <a:ext cx="588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orwarding Pointer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2. Redirecting a forwarding pointer b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a shortcut in a client stu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48104" t="0" r="0" b="0"/>
          <a:stretch/>
        </p:blipFill>
        <p:spPr>
          <a:xfrm>
            <a:off x="1444680" y="1282680"/>
            <a:ext cx="625788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me-Based Approach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3. The principle of Mobil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2880" y="1160640"/>
            <a:ext cx="77389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stributed Hash Tables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neral Mechanism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3870360"/>
            <a:ext cx="303696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4. Resolving key 26 from node 1 and key 12 from node 28 in a Chor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35480" y="1092240"/>
            <a:ext cx="52099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Approach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5. Hierarchical organization of a location service into domains, each having an associated directory n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4600" y="1741320"/>
            <a:ext cx="816588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archical Approach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-6. An example of storing information of an ent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wo addresses in different leaf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0320" y="1184400"/>
            <a:ext cx="78105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07T16:17:31Z</dcterms:modified>
  <cp:revision>62</cp:revision>
  <dc:subject/>
  <dc:title>Introduction</dc:title>
</cp:coreProperties>
</file>