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44E9-7726-4C52-8122-496248B9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615312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F06-86F4-4B20-886F-FEE330DB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E416-5DD8-4FD1-ADA9-C2DC847A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571500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6153120"/>
            <a:ext cx="294408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01C-844F-4212-B975-D71278B0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071-5D46-4C07-9415-D6E4DEC8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532-E57C-4BCD-BCE3-AA8369BE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4CE-2C66-4407-A195-714DF6F2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427-705A-4D07-A8BC-E13F5653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1B4A-280D-4BC3-9354-BD6927D6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6DAF-FC2F-4381-BB6F-59DE6FAA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615312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E4F2-84C6-4BFF-8D72-4E8A4495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5715000"/>
            <a:ext cx="44622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6153120"/>
            <a:ext cx="9144000" cy="3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9EA-82A1-4672-A0AE-65EF94FC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1461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60" indent="-146160" algn="ctr">
              <a:spcBef>
                <a:spcPts val="601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60" indent="-146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60" indent="-146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97360"/>
            <a:ext cx="914400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anenbaum &amp; Van Steen, Distributed Systems: Principles and Paradigms, 2e, (c) 2007 Prentice-Hall, Inc. All rights reserved. 0-13-239227-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DC1A-0777-4186-A0D4-1F056A271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1000"/>
            <a:ext cx="7772400" cy="50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s and Paradigms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Edi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S. TANENBA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ARTEN VAN STEEN</a:t>
            </a:r>
            <a:br>
              <a:rPr sz="1800"/>
            </a:br>
            <a:br>
              <a:rPr sz="18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apter 2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CHITECTUR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ltitiered Architectures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6720" y="1608120"/>
            <a:ext cx="7872480" cy="49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mplest organization is to have only two types of 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ient machine containing only the programs implementing (part of) the user-interfac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rver machine containing the res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grams implementing the processing and data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ltitiered Architecture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-5. Alternative client-server organizations (a)–(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30120" y="1401840"/>
            <a:ext cx="83390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ltitiered Architectures (3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-6. An example of a server acting as cl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7000" y="1460520"/>
            <a:ext cx="83343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ructured Peer-to-Peer Architectures (1)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60840" y="1300320"/>
            <a:ext cx="5249880" cy="5205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5258880"/>
            <a:ext cx="3795840" cy="11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-7. The mapping of data items onto nodes in Ch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ructured Peer-to-Peer Architectures (2)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4924440"/>
            <a:ext cx="418464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-8. (a) The mapping of data items onto nodes in C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53639" b="0"/>
          <a:stretch/>
        </p:blipFill>
        <p:spPr>
          <a:xfrm>
            <a:off x="4562640" y="1182600"/>
            <a:ext cx="433044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ructured Peer-to-Peer Architectures (3)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4614840"/>
            <a:ext cx="381312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-8. (b) Splitting a region when a node jo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56601" t="12064" r="0" b="0"/>
          <a:stretch/>
        </p:blipFill>
        <p:spPr>
          <a:xfrm>
            <a:off x="4094280" y="1219320"/>
            <a:ext cx="459396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nstructured Peer-to-Peer Architectures (1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6056280"/>
            <a:ext cx="91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-9. (a) The steps taken by the active th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3587" t="0" r="4279" b="41290"/>
          <a:stretch/>
        </p:blipFill>
        <p:spPr>
          <a:xfrm>
            <a:off x="1193760" y="1203480"/>
            <a:ext cx="69278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26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Unstructured Peer-to-Peer Architectures (2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056280"/>
            <a:ext cx="9144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-9. (b) The steps take by the passive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3587" t="58451" r="4279" b="-1284"/>
          <a:stretch/>
        </p:blipFill>
        <p:spPr>
          <a:xfrm>
            <a:off x="515880" y="1590840"/>
            <a:ext cx="8263080" cy="40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ology Management of Overlay Networks (1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343480"/>
            <a:ext cx="91440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-10. A two-layered approach for constructing and maintaining specific overlay topologies using techniques from unstructured peer-to-peer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90680" y="1366920"/>
            <a:ext cx="812772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pology Management of Overlay Networks (2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5265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-11. Generating a specific overlay network using a two-layered unstructured peer-to-peer system [adapted with permission from Jelasity and Babaoglu (2005)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17600" y="1701720"/>
            <a:ext cx="83390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chitectural Styles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3080" y="1750680"/>
            <a:ext cx="78170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styles of architecture for distribut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ed archite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based archite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-centered archite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-based archite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perpee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-12. A hierarchical organization of nodes into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peer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17840" y="1406520"/>
            <a:ext cx="61243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dge-Server System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-13. Viewing the Internet as consisting of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edge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93640" y="1798560"/>
            <a:ext cx="801864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llaborative Distributed Systems (1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53589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-14. The principal working of BitTorrent [adapted with permission from Pouwelse et al. (2004)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2880" y="1806480"/>
            <a:ext cx="859500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llaborative Distributed Systems (2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6960" y="1886040"/>
            <a:ext cx="80755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of Globule collaborative content distribution net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onent that can redirect client requests to other ser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onent for analyzing access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onent for managing the replication of Web p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ceptor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5776920"/>
            <a:ext cx="91440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-15. Using interceptors to hand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-object invo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189080"/>
            <a:ext cx="586404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510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eneral Approaches to Adaptive Software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82720" y="2135160"/>
            <a:ext cx="826128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basic approaches to adaptive softw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al 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-based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Feedback Control Model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-16. The logical organization of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control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0280" y="1366920"/>
            <a:ext cx="833580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-17. Data collection and inform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ion in Astrola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0000" y="1168560"/>
            <a:ext cx="7615080" cy="44146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588960" y="294840"/>
            <a:ext cx="805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xample: Systems Monitoring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 Astrolabe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xample: Differentiating Replication Strategies in Globule (1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585468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-18. The edge-server model assumed by Glob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19040" y="1843200"/>
            <a:ext cx="82821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31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xample: Differentiating Replication Strategies in Globule (2)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-19. The dependency between predi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and trace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23800" y="1687680"/>
            <a:ext cx="8207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chitectural Styles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5884920"/>
            <a:ext cx="91440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-1. The (a) layered architectural style and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50989" b="0"/>
          <a:stretch/>
        </p:blipFill>
        <p:spPr>
          <a:xfrm>
            <a:off x="2268360" y="1409760"/>
            <a:ext cx="4778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10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xample: Automatic Component Repair Management in Jade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0960" y="1917720"/>
            <a:ext cx="866304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required in a repair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te every binding between a component on a nonfaulty node, and a component on the node that just fa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the node manager to start and add a new node to the do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e the new node with exactly the same components as those on the crashed n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establish all the bindings that were previously termin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chitectural Styles (3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5948280"/>
            <a:ext cx="91440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-1. (b) The object-based architectural sty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51218" t="0" r="0" b="0"/>
          <a:stretch/>
        </p:blipFill>
        <p:spPr>
          <a:xfrm>
            <a:off x="2192400" y="1574640"/>
            <a:ext cx="463716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chitectural Styles (4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-2. (a) The event-based architectural style and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56034" b="0"/>
          <a:stretch/>
        </p:blipFill>
        <p:spPr>
          <a:xfrm>
            <a:off x="1297080" y="1263600"/>
            <a:ext cx="67006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rchitectural Styles (5)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-2. (b) The shared data-space architectural sty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53896" t="-7652" r="-1821" b="0"/>
          <a:stretch/>
        </p:blipFill>
        <p:spPr>
          <a:xfrm>
            <a:off x="873000" y="1122480"/>
            <a:ext cx="708660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zed Architectur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-3. General interaction between a client and a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01600" y="1897200"/>
            <a:ext cx="7083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lication Layering (1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38240" y="1824120"/>
            <a:ext cx="810576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previously mentioned layers of architectur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r-interfac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ing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a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lication Layering (2)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-4. The simplified organization of an Internet search engine into three different la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06320" y="1170000"/>
            <a:ext cx="79884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0:12:14Z</dcterms:created>
  <dc:creator>Steve Armstrong</dc:creator>
  <dc:description/>
  <dc:language>en-US</dc:language>
  <cp:lastModifiedBy>Steve Armstrong</cp:lastModifiedBy>
  <dcterms:modified xsi:type="dcterms:W3CDTF">2006-09-05T00:47:14Z</dcterms:modified>
  <cp:revision>58</cp:revision>
  <dc:subject/>
  <dc:title>Introduction</dc:title>
</cp:coreProperties>
</file>