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C25-894C-4961-A8B7-5F0B971D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E99-A52E-4DA8-A271-2BE38B1C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D8F-69F4-499B-9BA7-1AF0B730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1BF-828A-4C2D-8419-369272B1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D11-C49A-4803-A06C-D29833CA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D30-13B7-4BAC-B5BE-70E0F5FE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FC6-18AE-46B7-8966-B8815BBB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E0F-ECF2-435A-BB52-6999F792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3EB-25C1-4005-AD17-9EF97C94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7FE-6756-4F75-9C0E-D3E8A5E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F0D-95E5-4EE3-BF0B-D45F3773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D43-B72B-4A21-A4FA-340360E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7673-08FE-4663-8536-6B0848D5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11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ED FILE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PC2 Subsystem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8. Side effects in Coda’s RPC2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7760" y="1355760"/>
            <a:ext cx="836460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RPC2 Subsystem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9. (a) Sending an invalidation message one at a time. (b) Sending invalidation message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760" y="1724040"/>
            <a:ext cx="86961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ile-Oriented Communication in Plan 9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0. Files associated with a sing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in Plan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5120" y="1967040"/>
            <a:ext cx="87393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ing in NF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1. Mounting (part of) a remote file system in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1284120"/>
            <a:ext cx="849924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ing in NF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9720" y="974880"/>
            <a:ext cx="8388360" cy="5127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36960" y="5430960"/>
            <a:ext cx="520704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2. Mounting nested directorie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ervers in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utomount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599436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3. A simple automounter for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4480" y="1195560"/>
            <a:ext cx="76881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utomount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4. Using symbolic links with automou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74880" y="1251000"/>
            <a:ext cx="57052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structing a Global Name Spac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5. Junctions in 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1840" y="1973160"/>
            <a:ext cx="86756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mantics of File Shar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1280" y="3390840"/>
            <a:ext cx="41068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6. (a) On a single processor, when a read follows a write, the value returned by the read is the value just writt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36944" r="56377" b="0"/>
          <a:stretch/>
        </p:blipFill>
        <p:spPr>
          <a:xfrm>
            <a:off x="4705200" y="1184400"/>
            <a:ext cx="41389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784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mantics of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Shar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57280" y="4398840"/>
            <a:ext cx="4478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6. (b) In a distributed system with caching, obsolete values may be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57232" t="0" r="0" b="0"/>
          <a:stretch/>
        </p:blipFill>
        <p:spPr>
          <a:xfrm>
            <a:off x="5388120" y="366840"/>
            <a:ext cx="3141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-Server Architectur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0160" y="5471640"/>
            <a:ext cx="818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. (a) The remote access model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The upload/download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7360" y="1611360"/>
            <a:ext cx="8442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mantics of File Sharing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12604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7. Four ways of dealing with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files in a distribut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9144000" cy="21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Lock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5513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8. NFSv4 operations related to file loc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2380" b="0"/>
          <a:stretch/>
        </p:blipFill>
        <p:spPr>
          <a:xfrm>
            <a:off x="79200" y="1830240"/>
            <a:ext cx="89265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Lock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3118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9. The result of an open operation with share reservations in NFS. (a) When the client requests shared access given the current deni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9405"/>
          <a:stretch/>
        </p:blipFill>
        <p:spPr>
          <a:xfrm>
            <a:off x="0" y="160812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Locking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531288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19. The result of an open operation with share reservations in NFS. (b) When the client requests a denial state given the current file acces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50355" r="0" b="0"/>
          <a:stretch/>
        </p:blipFill>
        <p:spPr>
          <a:xfrm>
            <a:off x="0" y="1793880"/>
            <a:ext cx="91440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aring Files in Cod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5869080"/>
            <a:ext cx="91440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0. The transactional behavior in sharing files in C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30320" y="1144440"/>
            <a:ext cx="71881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-Side Cach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1. Client-side caching in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" y="1411200"/>
            <a:ext cx="81835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-Side Cach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2. Using the NFSv4 callback mechanis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call file del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440" y="1649520"/>
            <a:ext cx="82627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-Side Caching in Cod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3. The use of local copies w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a session in C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2440" y="1514520"/>
            <a:ext cx="83786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rver Replication in Coda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4. Two clients with a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SG for the same replicated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4760" y="1544760"/>
            <a:ext cx="84358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ructured Peer-to-Peer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5. Balancing load in a peer-to-pe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by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7280" y="1774800"/>
            <a:ext cx="80582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ent-Server Architectur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. The basic NFS architecture for UNIX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9000" y="1508040"/>
            <a:ext cx="764856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ndling Byzantine Fail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6. The different phases in Byzantine fault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2960" y="1882800"/>
            <a:ext cx="8380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igh Availability in Peer-to-Peer Syste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5715000"/>
            <a:ext cx="6119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7. The rati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e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/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of node avail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6320" y="1279440"/>
            <a:ext cx="771516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ity in NF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8. The NFS security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5360" y="1504800"/>
            <a:ext cx="83152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RP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599436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29. Secure RPC in NFSv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8920" y="1073160"/>
            <a:ext cx="6021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ess Contr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0. The various kinds of users and processes distinguished by NFS with respect to access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entralized Authentication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90076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1. The organization of S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1000" y="1193760"/>
            <a:ext cx="84628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centralized Authentication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52959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2. A self-certifying pathname in S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8240" y="2482920"/>
            <a:ext cx="887868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310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cure Lookups in DHT-Based Syste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2160" y="1762200"/>
            <a:ext cx="75312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routing requires that three issues are dealt with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e assigned identifiers in a secur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tables are securely main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up requests are securely forwarded between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e Collaborative Storag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3. The principle of storage claims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sara peer-to-pee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8960" y="1521000"/>
            <a:ext cx="8012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System Model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. An incomplete list of file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supported by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47012"/>
          <a:stretch/>
        </p:blipFill>
        <p:spPr>
          <a:xfrm>
            <a:off x="770040" y="1349280"/>
            <a:ext cx="7834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le System Model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3. An incomplete list of file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supported by N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52580" r="0" b="0"/>
          <a:stretch/>
        </p:blipFill>
        <p:spPr>
          <a:xfrm>
            <a:off x="754200" y="1908000"/>
            <a:ext cx="7834320" cy="329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19000" y="1542960"/>
            <a:ext cx="766764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uster-Based Distributed File Systems (1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040" y="5233680"/>
            <a:ext cx="836928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4. The difference between (a) distributing whole files across several server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striping files for parallel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54168" b="0"/>
          <a:stretch/>
        </p:blipFill>
        <p:spPr>
          <a:xfrm>
            <a:off x="446040" y="1792440"/>
            <a:ext cx="4221360" cy="24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59964" t="16757" r="0" b="0"/>
          <a:stretch/>
        </p:blipFill>
        <p:spPr>
          <a:xfrm>
            <a:off x="5045040" y="2182680"/>
            <a:ext cx="3726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uster-Based Distributed File Systems (2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5. The organization of a Google cluster of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8760" y="1666800"/>
            <a:ext cx="87883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mmetric Archite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6. The organization of the Ivy distributed fil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040" y="1500120"/>
            <a:ext cx="83901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mote Procedure Calls in NF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1-7. (a) Reading data from a file in NFS version 3. (b) Reading data using a compound procedure in version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56751" b="0"/>
          <a:stretch/>
        </p:blipFill>
        <p:spPr>
          <a:xfrm>
            <a:off x="203040" y="1658880"/>
            <a:ext cx="3883320" cy="3629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56598" t="0" r="0" b="0"/>
          <a:stretch/>
        </p:blipFill>
        <p:spPr>
          <a:xfrm>
            <a:off x="4989600" y="1730520"/>
            <a:ext cx="383832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16T21:53:13Z</dcterms:modified>
  <cp:revision>64</cp:revision>
  <dc:subject/>
  <dc:title>Introduction</dc:title>
</cp:coreProperties>
</file>