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562-5558-4155-9B8D-8E5DB526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61531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C96-08DA-4B6B-960A-D76838F7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A5AC-2A54-43C4-8A32-4F257866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8E9-04D6-4E37-A22A-0221989B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6F49-E972-48E9-8ECD-12255215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89F-BB5D-4B66-A423-5A5FEB68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821-9361-4231-809F-2B19ED7A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B9F-6361-4197-A38B-DD9B3F46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CD7-2654-4751-BBDC-C9181D4D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3EA-C7B4-4A20-A309-1DF220BB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A22-4479-47BC-99DC-FBB2779B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FE0-9030-482D-ABF3-51D27276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1461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60" indent="-146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60" indent="-146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97360"/>
            <a:ext cx="9144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anenbaum &amp; Van Steen, Distributed Systems: Principles and Paradigms, 2e, (c) 2007 Prentice-Hall, Inc. All rights reserved. 0-13-239227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E499-55B8-466D-856C-D2E56A403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 and Paradigm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Edi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S. TANENBA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RTEN VAN STEEN</a:t>
            </a:r>
            <a:br>
              <a:rPr sz="1800"/>
            </a:br>
            <a:br>
              <a:rPr sz="18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pter 8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ult Toleran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greement in Faulty Systems (5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6. The same as Fig. 8-5, except now with two correct process and one faulty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57601" b="0"/>
          <a:stretch/>
        </p:blipFill>
        <p:spPr>
          <a:xfrm>
            <a:off x="328680" y="1670040"/>
            <a:ext cx="4952880" cy="3332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75108" t="34006" r="0" b="0"/>
          <a:stretch/>
        </p:blipFill>
        <p:spPr>
          <a:xfrm>
            <a:off x="5438880" y="3127320"/>
            <a:ext cx="2789280" cy="210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rcRect l="42117" t="34006" r="34862" b="0"/>
          <a:stretch/>
        </p:blipFill>
        <p:spPr>
          <a:xfrm>
            <a:off x="5638680" y="1225440"/>
            <a:ext cx="25495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PC Semantics in the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esence of Failur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2960" y="1499760"/>
            <a:ext cx="85392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different classes of failures that can occur in RPC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ent is unable to locate the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quest message from the client to the server is l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rver crashes after receiving a requ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ply message from the server to the client is l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ent crashes after sending a requ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rver Crashe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4366800"/>
            <a:ext cx="640080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7. A server in client-server communication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The normal cas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Crash after executio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Crash before exec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33617" b="0"/>
          <a:stretch/>
        </p:blipFill>
        <p:spPr>
          <a:xfrm>
            <a:off x="596880" y="1311120"/>
            <a:ext cx="7489800" cy="2516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70566" t="0" r="0" b="0"/>
          <a:stretch/>
        </p:blipFill>
        <p:spPr>
          <a:xfrm>
            <a:off x="5432400" y="3962520"/>
            <a:ext cx="33544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rver Crashe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7360" y="1452600"/>
            <a:ext cx="875664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events that can happen at the serv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the completion message (M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the text (P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sh (C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rver Crashes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204920"/>
            <a:ext cx="836784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vents can occur in six different orde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→P →C: A crash occurs after sending the completion message and printing th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→C (→P): A crash happens after sending the completion message, but before the text could be pr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→M →C: A crash occurs after sending the completion message and printing th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→C(→M): The text printed, after which a crash occurs before the completion message could b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(→P →M): A crash happens before the server could do any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(→M →P): A crash happens before the server could do any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rver Crashes (4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8. Different combinations of client and serv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in the presence of server cr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76200" y="1714680"/>
            <a:ext cx="83012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asic Reliable-Multicasting Schem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5467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475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9. A simple solution to reliable multicasting when all receivers are known and are assumed not to fa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Message transmission. (b) Reporting feed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79360" y="1217520"/>
            <a:ext cx="656748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nhierarchical Feedback Control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524988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35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10. Several receivers have scheduled a request for retransmission, but the first retransmission reque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the suppression of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19040" y="1617840"/>
            <a:ext cx="8382240" cy="30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ierarchical Feedback Control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5235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396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11. The essence of hierarchical reliable multica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ocal coordinator forwards the message to its children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handles retransmission req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25360" y="1190520"/>
            <a:ext cx="708984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irtual Synchrony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12. The logical organization of a distributed system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between message receipt and message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12800" y="1146240"/>
            <a:ext cx="765648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ult Tolerance Basic Concep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69720" y="1855800"/>
            <a:ext cx="84204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fault tolerant is strongly related to what are called dependab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ability implies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irtual Synchrony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13. The principle of virtual synchronous multic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9760" y="1525680"/>
            <a:ext cx="81914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ssage Ordering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6160" y="1405080"/>
            <a:ext cx="836784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different orderings are distingu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ordered multi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O-ordered multi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ally-ordered multi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ly-ordered multi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ssage Ordering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4957920"/>
            <a:ext cx="91440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280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14. Three communicating processe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group.  The ordering of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process is shown along the vertical 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13232" b="0"/>
          <a:stretch/>
        </p:blipFill>
        <p:spPr>
          <a:xfrm>
            <a:off x="374760" y="2303640"/>
            <a:ext cx="82692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ssage Ordering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5322960"/>
            <a:ext cx="91440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15. Four processes in the same group with two different senders, and a possible delivery order of messages under FIFO-ordered multi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680" t="0" r="9915" b="0"/>
          <a:stretch/>
        </p:blipFill>
        <p:spPr>
          <a:xfrm>
            <a:off x="312840" y="2173320"/>
            <a:ext cx="85932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lementing Virtual Synchrony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53895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16. Six different versions of virtual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reliable multica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766880"/>
            <a:ext cx="91440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lementing Virtual Synchrony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566892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17. (a) Process 4 notices that process 7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crashed and sends a view chan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9564" r="68281" b="0"/>
          <a:stretch/>
        </p:blipFill>
        <p:spPr>
          <a:xfrm>
            <a:off x="2855880" y="1515960"/>
            <a:ext cx="33130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lementing Virtual Synchrony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5678640"/>
            <a:ext cx="91440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17. (b) Process 6 sends out all 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 messages, followed by a flush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32834" t="0" r="32382" b="0"/>
          <a:stretch/>
        </p:blipFill>
        <p:spPr>
          <a:xfrm>
            <a:off x="2798640" y="1222200"/>
            <a:ext cx="359424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mplementing Virtual Synchrony (4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5576760"/>
            <a:ext cx="91440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17. (c) Process 6 installs the new view when it has received a flush message from everyone e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68615" t="8463" r="0" b="0"/>
          <a:stretch/>
        </p:blipFill>
        <p:spPr>
          <a:xfrm>
            <a:off x="2897280" y="1284120"/>
            <a:ext cx="3448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wo-Phase Commit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557640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18. (a) The finite state machine for the coordinator in 2PC. (b) The finite state machine for a particip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4360" y="2098800"/>
            <a:ext cx="816300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wo-Phase Commit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19. Actions taken by a participant P when residing in state READY and having contacted another participant 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0160" y="1836720"/>
            <a:ext cx="6435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ilure Mode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1. Different types of fai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1920" y="1674720"/>
            <a:ext cx="85741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wo-Phase Commit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20. Outline of the steps taken by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or in a two-phase commit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0" b="38462"/>
          <a:stretch/>
        </p:blipFill>
        <p:spPr>
          <a:xfrm>
            <a:off x="0" y="1222200"/>
            <a:ext cx="9144000" cy="3767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90720" y="4835520"/>
            <a:ext cx="13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wo-Phase Commit (4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20. Outline of the steps taken by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or in a two-phase commit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60914" r="0" b="0"/>
          <a:stretch/>
        </p:blipFill>
        <p:spPr>
          <a:xfrm>
            <a:off x="0" y="2543040"/>
            <a:ext cx="8850240" cy="2392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5120" y="1922400"/>
            <a:ext cx="13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760" y="-360"/>
            <a:ext cx="5749920" cy="25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wo-Phase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mit (5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3258" t="0" r="23031" b="37238"/>
          <a:stretch/>
        </p:blipFill>
        <p:spPr>
          <a:xfrm>
            <a:off x="3629160" y="420840"/>
            <a:ext cx="5514840" cy="6003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3390840"/>
            <a:ext cx="3983040" cy="31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21. (a) The steps taken by a participant process in 2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1400" y="-360"/>
            <a:ext cx="81817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wo-Phase Commit (7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3258" t="63511" r="1474" b="1293"/>
          <a:stretch/>
        </p:blipFill>
        <p:spPr>
          <a:xfrm>
            <a:off x="479520" y="1365120"/>
            <a:ext cx="8210520" cy="3878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5684760"/>
            <a:ext cx="86788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21. (b) The steps for handl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ing decision request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ree-Phase Commit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5040" y="1297080"/>
            <a:ext cx="85089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s of the coordinator and each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isfy the following two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single state from which it is possible to make a transition directly to either a COMMIT or an ABORT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state in which it is not possible to make a final decision, and from which a transition to a COMMIT state can be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ree-Phase Commit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5575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22. (a) The finite state machine for the coordinator in 3PC. (b) The finite state machine for a particip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03200" y="1762200"/>
            <a:ext cx="82630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covery – Stable Storag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23. (a) Stable storag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Crash after drive 1 is updated. (c) Bad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63520" y="1239840"/>
            <a:ext cx="74962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eckpoint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24. A recovery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4720" y="1601640"/>
            <a:ext cx="83710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dependent Checkpoint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25. The domino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30120" y="2089080"/>
            <a:ext cx="84790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5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haracterizing Message-Logging Schem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26. Incorrect replay of messag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recovery, leading to an orpha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79360" y="2028960"/>
            <a:ext cx="85917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ailure Masking by Redundanc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2. Triple modular redunda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3120" y="1209600"/>
            <a:ext cx="78976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lat Groups versus Hierarchical Group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3. (a) Communication in a flat group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Communication in a simple hierarchical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9680" y="1512720"/>
            <a:ext cx="8292960" cy="38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greement in Faulty System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12800" y="1498680"/>
            <a:ext cx="84312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c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ous versus asynchronous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delay is bounded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delivery is ordered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transmission is done through unicasting or multica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greement in Faulty System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4. Circumstances under which distribu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can be rea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8960" y="1530360"/>
            <a:ext cx="85122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greement in Faulty Systems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5280120"/>
            <a:ext cx="91440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5. The Byzantine agreement problem for thr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faulty and one faulty process. (a) Each proces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s their value to the ot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69992" b="0"/>
          <a:stretch/>
        </p:blipFill>
        <p:spPr>
          <a:xfrm>
            <a:off x="2820960" y="1301760"/>
            <a:ext cx="351648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greement in Faulty Systems (4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48769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-5. The Byzantine agreement problem for thr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faulty and one faulty process. (b) The vecto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assembles based on (a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The vectors that each process receives in step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34995" t="39308" r="0" b="0"/>
          <a:stretch/>
        </p:blipFill>
        <p:spPr>
          <a:xfrm>
            <a:off x="434880" y="1874880"/>
            <a:ext cx="80470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0:12:14Z</dcterms:created>
  <dc:creator>Steve Armstrong</dc:creator>
  <dc:description/>
  <dc:language>en-US</dc:language>
  <cp:lastModifiedBy>Steve Armstrong</cp:lastModifiedBy>
  <dcterms:modified xsi:type="dcterms:W3CDTF">2006-09-13T01:22:31Z</dcterms:modified>
  <cp:revision>63</cp:revision>
  <dc:subject/>
  <dc:title>Introduction</dc:title>
</cp:coreProperties>
</file>